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547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12A-8775-4DD7-8CCA-94DD66CE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012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892320"/>
            <a:ext cx="88012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3F5-BA35-4EE4-9B85-5F950711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360" y="1066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892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360" y="3892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141-FD29-4D18-B466-340C6728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339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400" y="1066320"/>
            <a:ext cx="28339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160" y="1066320"/>
            <a:ext cx="28339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892320"/>
            <a:ext cx="28339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400" y="3892320"/>
            <a:ext cx="28339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160" y="3892320"/>
            <a:ext cx="28339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C59-5BC7-4B89-86E9-516C7C17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012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CF2-F6BC-48BA-8A1E-18F9F7F8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012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C61-514B-452C-8D3A-130D7351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294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360" y="1066320"/>
            <a:ext cx="4294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73C-4D1F-4425-B52B-7FCE6881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772-A557-4DDE-A68C-C5A3BC57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2AB-33D8-4DF5-B5E8-F2ABF2C1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360" y="1066320"/>
            <a:ext cx="4294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892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331-1329-46E3-953B-40A2D9C6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294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1066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360" y="3892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50A-95DD-4AC3-8655-45E11F6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1066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892320"/>
            <a:ext cx="88012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193-872F-4F7D-A816-FBAD8AD6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K.Cuthbertson, D.Nitzsch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C3E2AA-7881-4EDE-9C28-141C46720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solidFill>
            <a:srgbClr val="000066"/>
          </a:solidFill>
          <a:ln w="76320">
            <a:solidFill>
              <a:srgbClr val="00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52280" y="1066320"/>
            <a:ext cx="8801280" cy="5410440"/>
          </a:xfrm>
          <a:prstGeom prst="rect">
            <a:avLst/>
          </a:prstGeom>
          <a:solidFill>
            <a:srgbClr val="000066"/>
          </a:solidFill>
          <a:ln w="7632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1066680" y="152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Version 11/9/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26720" y="1003320"/>
            <a:ext cx="37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L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Options Mark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946-8F87-4737-ADE3-20A2CD6138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6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6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838080"/>
            <a:ext cx="807732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Buy ( “long”) European Call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hav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he cho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buying the underlying asset (stock) at a future date, at a (strike) price which is fixed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~for this privilege you pay the ( call ) option premium \ price (to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quire the right, but not an oblig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purchase the (underlying) asset a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ed future date(expiration \ expiry \ maturity dat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certain price ( strike \ exercise  pric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in an amount  ( contract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fixed in adv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41320" y="176040"/>
            <a:ext cx="42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y European Call Op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F5E-0A62-4910-940A-BFF160E57F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88480" y="-360"/>
            <a:ext cx="82551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e 1  Buy One European Call Option (‘Underlying’ asset = stock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320" y="1138320"/>
            <a:ext cx="782316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52480" y="1473120"/>
            <a:ext cx="0" cy="4191120"/>
          </a:xfrm>
          <a:prstGeom prst="line">
            <a:avLst/>
          </a:prstGeom>
          <a:ln w="50760">
            <a:solidFill>
              <a:srgbClr val="cc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4064040"/>
            <a:ext cx="5105520" cy="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5054760"/>
            <a:ext cx="18288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581280" y="1701720"/>
            <a:ext cx="3353040" cy="33530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752120" y="4064040"/>
            <a:ext cx="762120" cy="0"/>
          </a:xfrm>
          <a:prstGeom prst="line">
            <a:avLst/>
          </a:prstGeom>
          <a:ln w="507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2311560"/>
            <a:ext cx="4572000" cy="0"/>
          </a:xfrm>
          <a:prstGeom prst="line">
            <a:avLst/>
          </a:prstGeom>
          <a:ln w="507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2311560"/>
            <a:ext cx="0" cy="1752480"/>
          </a:xfrm>
          <a:prstGeom prst="line">
            <a:avLst/>
          </a:prstGeom>
          <a:ln w="507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71800" y="345456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K=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4140360"/>
            <a:ext cx="99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8120" y="4140360"/>
            <a:ext cx="106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42360" y="4216320"/>
            <a:ext cx="992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 Rounded MT Bold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5120" y="1015920"/>
            <a:ext cx="426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Strike Price, K =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5240" y="2082960"/>
            <a:ext cx="144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3987720"/>
            <a:ext cx="167616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ll Premium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41560" y="4826160"/>
            <a:ext cx="129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8600" y="398772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505320" y="3911400"/>
            <a:ext cx="0" cy="1143000"/>
          </a:xfrm>
          <a:prstGeom prst="line">
            <a:avLst/>
          </a:prstGeom>
          <a:ln w="507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69040" y="1860480"/>
            <a:ext cx="1892520" cy="135900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c4007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13760" y="270684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15200" y="2768760"/>
            <a:ext cx="8380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8153280" y="2158920"/>
            <a:ext cx="609840" cy="6098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923240" y="19303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90720" y="5562720"/>
            <a:ext cx="7696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Speculator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: Buys call if thinks S will rise 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in the futur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above K=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Hedger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Pension fund wants to buy stock in the future and fears a                        rise in S.  Locks in a MAX price of K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2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2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6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667-B053-453D-845F-8D5076B9D4F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5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6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914400" y="990720"/>
            <a:ext cx="762012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Each call option contract is for delivery of 100 shares (but call premium is based on ‘one shar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If S</a:t>
            </a:r>
            <a:r>
              <a:rPr b="1" lang="en-GB" sz="2000" spc="-1" strike="noStrike" u="sng" baseline="-25000">
                <a:solidFill>
                  <a:srgbClr val="ffff00"/>
                </a:solidFill>
                <a:uFillTx/>
                <a:latin typeface="Arial"/>
              </a:rPr>
              <a:t>T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 &gt; K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88 &gt; 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Exercise the o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“in-the-money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oss profit = S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K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=   88 - 80 = $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t profit =  S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K  - C = $8 - $3 = $5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net profit =  $500 per contrac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(and ‘upside’ is unlim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If S</a:t>
            </a:r>
            <a:r>
              <a:rPr b="1" lang="en-GB" sz="2000" spc="-1" strike="noStrike" u="sng" baseline="-25000">
                <a:solidFill>
                  <a:srgbClr val="ffff00"/>
                </a:solidFill>
                <a:uFillTx/>
                <a:latin typeface="Arial"/>
              </a:rPr>
              <a:t>T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 &lt;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not exercise the optio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out-of-the-mon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ss = C (100) =  $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ulators loss is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limited to $300 per contrac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ie.e ‘insuranc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39520" y="176040"/>
            <a:ext cx="40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it from Call at Expi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EA9-3BDA-483D-8449-AF67DB6B37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9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9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6" name=""/>
          <p:cNvSpPr/>
          <p:nvPr/>
        </p:nvSpPr>
        <p:spPr>
          <a:xfrm>
            <a:off x="1066680" y="6858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1455840"/>
            <a:ext cx="746784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PE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you only pay about  $3 to ‘gamble’ on the future stock price, which will have a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urrent val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round $80, then options provide ‘leverage’ for a specul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‘downside’ is also limited to the call premium p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87840" y="176040"/>
            <a:ext cx="59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mmary: Payoff from Call at Expi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CC9-2732-4D49-987E-6405CDE4C6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3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3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2" name=""/>
          <p:cNvSpPr/>
          <p:nvPr/>
        </p:nvSpPr>
        <p:spPr>
          <a:xfrm>
            <a:off x="1066680" y="6858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66680" y="990720"/>
            <a:ext cx="7467840" cy="56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HEDGER: Obtains INSURANCE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the stock price at maturity (T) is high (e.g. S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88)  then the pension fund ‘exercises the option’ at the CBOT and pays only K=80 for the stoc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T if the stock price is low (e.g. S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60) then the pension fund ‘walks away’ from the option contract (ie. does not exercise at K=80) and simply buys the stock in the spot market (e.g. NYSE) at 6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nsion fund has ‘insured’ that the max. price it will pay is K=80 but it can take advantage of lower stock prices should these ar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is ‘flexibility’ the pension fund pays the call premium of $3 (toda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987840" y="176040"/>
            <a:ext cx="59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mmary: Payoff from Call at Expi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8FC-0E96-4D2F-B624-5DBE6CE82F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6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6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8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43000" y="1371600"/>
            <a:ext cx="72388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ell ( = write ) European Call Op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quire an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obligation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s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(underlying) asset  to the bu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f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uyer decides to exercise the option (and you are still holding a written cal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riter of the option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must deliv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f ‘the long’ decides to excercise the option at  expi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adoxically the writer of an option, does not have an ‘option/choice’ AT MATURITY, ( but before maturity the writer has the ‘option’ to  close out her position,  with another trad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41680" y="252360"/>
            <a:ext cx="534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e(Sell) European Call Op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468-C04B-4403-B8BB-259CE6EEE8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1752480" y="1066680"/>
            <a:ext cx="0" cy="4191120"/>
          </a:xfrm>
          <a:prstGeom prst="line">
            <a:avLst/>
          </a:prstGeom>
          <a:ln w="50760">
            <a:solidFill>
              <a:srgbClr val="cc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14600" y="3657600"/>
            <a:ext cx="5105520" cy="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1752120" y="3657600"/>
            <a:ext cx="762120" cy="0"/>
          </a:xfrm>
          <a:prstGeom prst="line">
            <a:avLst/>
          </a:prstGeom>
          <a:ln w="507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00400" y="365760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K=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2000" y="373392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399360" y="3657600"/>
            <a:ext cx="114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542360" y="3809880"/>
            <a:ext cx="1068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 Rounded MT Bold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65440" y="1143000"/>
            <a:ext cx="449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Strike Price, K =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1560" y="2452680"/>
            <a:ext cx="13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752480" y="2743200"/>
            <a:ext cx="22100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62520" y="2743200"/>
            <a:ext cx="2590560" cy="25909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2819520"/>
            <a:ext cx="0" cy="914400"/>
          </a:xfrm>
          <a:prstGeom prst="line">
            <a:avLst/>
          </a:prstGeom>
          <a:ln w="507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" y="2438280"/>
            <a:ext cx="0" cy="12193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62120" y="2743200"/>
            <a:ext cx="17524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ll Premium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400800" y="3733920"/>
            <a:ext cx="0" cy="1371600"/>
          </a:xfrm>
          <a:prstGeom prst="line">
            <a:avLst/>
          </a:prstGeom>
          <a:ln w="507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752480" y="5105520"/>
            <a:ext cx="4648320" cy="0"/>
          </a:xfrm>
          <a:prstGeom prst="line">
            <a:avLst/>
          </a:prstGeom>
          <a:ln w="507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88920" y="4800600"/>
            <a:ext cx="137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-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407280" y="1682640"/>
            <a:ext cx="1892160" cy="135900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c4007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80240" y="175248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70960" y="21337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543800" y="2209680"/>
            <a:ext cx="609480" cy="6098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2209680"/>
            <a:ext cx="8380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66680" y="55627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er:  Has to pay an initial margin (e.g. 50% of current value of stocks, underlying the contract + the option prem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2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2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7" name=""/>
          <p:cNvSpPr/>
          <p:nvPr/>
        </p:nvSpPr>
        <p:spPr>
          <a:xfrm>
            <a:off x="1066680" y="76212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3960" y="203040"/>
            <a:ext cx="72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gure 2  Sell( Write) a European Call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198-5B70-45EB-BC39-EE72614504C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6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6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990720" y="6094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t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1430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9E1-325E-4598-8BE9-920E0A3555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9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9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1066680" y="76212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95280" y="1219320"/>
            <a:ext cx="69343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Buy ( Long) European Put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Have the choice of selling the underlying asset (stock) at a future date, at a (strike) price which is fixed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this privilege you p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( put ) option premium \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quire the right, but not an oblig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SELL the (underlying) asset a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ed future date(expiration \ expiry \ maturity dat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certain price ( strike \ exercise  pric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in an amount  ( contract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fixed in adv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993240" y="252360"/>
            <a:ext cx="350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uropean Put Op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614-27B7-4063-BA60-CC0B236219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1" name=""/>
          <p:cNvGraphicFramePr/>
          <p:nvPr/>
        </p:nvGraphicFramePr>
        <p:xfrm>
          <a:off x="914400" y="3581280"/>
          <a:ext cx="36576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581280"/>
                    <a:ext cx="36576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3" name=""/>
          <p:cNvGraphicFramePr/>
          <p:nvPr/>
        </p:nvGraphicFramePr>
        <p:xfrm>
          <a:off x="4686480" y="3581280"/>
          <a:ext cx="422892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6480" y="3581280"/>
                    <a:ext cx="42289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5943600" y="914400"/>
          <a:ext cx="243828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914400"/>
                    <a:ext cx="24382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3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4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39880" y="252360"/>
            <a:ext cx="48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y a Put  = Trial  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06960" y="16002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BUCK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28C-5AA8-4F98-B586-DF9B928085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066680" y="1219320"/>
            <a:ext cx="518184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ial 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522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750-C568-452D-84D1-56AB337E9A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 flipH="1">
            <a:off x="914040" y="1905120"/>
            <a:ext cx="6705720" cy="2895480"/>
          </a:xfrm>
          <a:prstGeom prst="line">
            <a:avLst/>
          </a:prstGeom>
          <a:ln w="1260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1066680" y="2286000"/>
            <a:ext cx="6553440" cy="2743200"/>
          </a:xfrm>
          <a:prstGeom prst="line">
            <a:avLst/>
          </a:prstGeom>
          <a:ln w="1260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6324480" y="2971800"/>
          <a:ext cx="259092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971800"/>
                    <a:ext cx="259092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7" name=""/>
          <p:cNvGraphicFramePr/>
          <p:nvPr/>
        </p:nvGraphicFramePr>
        <p:xfrm>
          <a:off x="1436760" y="685800"/>
          <a:ext cx="313524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6760" y="685800"/>
                    <a:ext cx="3135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8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8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1" name=""/>
          <p:cNvSpPr/>
          <p:nvPr/>
        </p:nvSpPr>
        <p:spPr>
          <a:xfrm>
            <a:off x="11430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069200" y="100080"/>
            <a:ext cx="47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ercise the Put = DIV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954880" y="4829040"/>
            <a:ext cx="24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BUCKSID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( Fin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6D4-EEA5-47F4-A124-4DB0E74F17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133720" y="762120"/>
            <a:ext cx="0" cy="144756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819520" y="3429000"/>
            <a:ext cx="495288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467480" y="3429000"/>
            <a:ext cx="13716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2120" y="60948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2160360" y="1831680"/>
            <a:ext cx="3097080" cy="2359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5257800" y="4191120"/>
            <a:ext cx="1828800" cy="144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67080" y="3429000"/>
            <a:ext cx="0" cy="152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181480" y="3429000"/>
            <a:ext cx="0" cy="152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029200" y="35812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=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038480" y="3581280"/>
            <a:ext cx="129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52480" y="32004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1981080" y="4191120"/>
            <a:ext cx="1526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523880" y="3962520"/>
            <a:ext cx="144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14800" y="838080"/>
            <a:ext cx="44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ke Price K= $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19520" y="3505320"/>
            <a:ext cx="0" cy="152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2514240" y="3429000"/>
            <a:ext cx="30492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43200" y="365760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14400" y="35812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2209680" y="2362320"/>
            <a:ext cx="60984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819520" y="2361960"/>
            <a:ext cx="0" cy="106668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523880" y="2133720"/>
            <a:ext cx="144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33520" y="3429000"/>
            <a:ext cx="0" cy="83808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33720" y="3429000"/>
            <a:ext cx="3808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2133720" y="2209320"/>
            <a:ext cx="0" cy="22860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133720" y="2514600"/>
            <a:ext cx="0" cy="2209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340240" y="1378080"/>
            <a:ext cx="1892520" cy="135864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c4007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410080" y="1752480"/>
            <a:ext cx="609840" cy="6098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70760" y="19051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13560" y="16765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38080" y="4800600"/>
            <a:ext cx="77724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pecul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Buys put if thinks S will FALL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edg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ension fund ALREADY HOLDS STOCKS and  in the future, fears a  FALL in S.  Locks in a MIN PRICE of K, at which to sell the shares.  But if S does not fall blow K=70 , then ‘walks away’ and sells shares in the spot market (e.g. NYSE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4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4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8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916560" y="127080"/>
            <a:ext cx="59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gure 3   Buy (Long) : European 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9A7-DD88-458E-AF21-527BB33FC3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133720" y="1676520"/>
            <a:ext cx="0" cy="320040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048120" y="3809880"/>
            <a:ext cx="472428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67480" y="3809880"/>
            <a:ext cx="13716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14400" y="14479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2133720" y="3200400"/>
            <a:ext cx="3200400" cy="25909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5257800" y="3200400"/>
            <a:ext cx="1828800" cy="144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572000" y="3733920"/>
            <a:ext cx="0" cy="152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334120" y="3733920"/>
            <a:ext cx="0" cy="152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029200" y="38098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=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419720" y="380988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752480" y="35053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1981080" y="4648320"/>
            <a:ext cx="1526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4343400"/>
            <a:ext cx="144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57600" y="4952880"/>
            <a:ext cx="495288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ke price K= $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ck price at expiry,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581280" y="3657600"/>
            <a:ext cx="0" cy="152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2590560" y="3809880"/>
            <a:ext cx="53316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352680" y="3809880"/>
            <a:ext cx="129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38080" y="388620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 Prem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2209680" y="4648320"/>
            <a:ext cx="1371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3581280" y="3809520"/>
            <a:ext cx="0" cy="83844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523880" y="2819520"/>
            <a:ext cx="144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33520" y="2895120"/>
            <a:ext cx="0" cy="83844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133720" y="4876920"/>
            <a:ext cx="0" cy="129528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133720" y="3809880"/>
            <a:ext cx="3808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33720" y="5334120"/>
            <a:ext cx="0" cy="9144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72000" y="1371600"/>
            <a:ext cx="1892160" cy="135900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c400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952880" y="19051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4800240" y="1676520"/>
            <a:ext cx="609480" cy="6094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410080" y="1676520"/>
            <a:ext cx="8384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560920" y="16002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1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1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3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916920" y="203040"/>
            <a:ext cx="58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gure 4  Sell( Write): European 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1D0-8F43-477A-91F1-410FE6EEA1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4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4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8" name=""/>
          <p:cNvSpPr/>
          <p:nvPr/>
        </p:nvSpPr>
        <p:spPr>
          <a:xfrm>
            <a:off x="114300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066680" y="1143000"/>
            <a:ext cx="68580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Rounded MT Bold"/>
              </a:rPr>
              <a:t>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YING,   Calls and Puts allow you to ‘lock in’ a (strike) ‘price’ in the future, by paying the option premium to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‘price’ can be for a company stock, stock-index,T-bond, currency or an interest rate (e.g. to ‘insure’ the maximum cost of borrowing on a existing loa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may also choose to NOT EXERCISE the option, if it is better to do the deal in the ‘spot market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PECULATION (‘LEVERAG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ll market - buy a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ar market - buy a 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69920" y="40464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AA8-051C-43C6-8BEE-2EF788FC7D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8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8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"/>
          <p:cNvSpPr/>
          <p:nvPr/>
        </p:nvSpPr>
        <p:spPr>
          <a:xfrm>
            <a:off x="91440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666880" y="2514600"/>
            <a:ext cx="450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inancial Engine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29D-031E-4569-9A11-6BC1B52E66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2971800" y="1569960"/>
            <a:ext cx="2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2207520" y="765360"/>
            <a:ext cx="842040" cy="9237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276720" y="21178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24080" y="134136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048120" y="2789280"/>
            <a:ext cx="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876920" y="396720"/>
            <a:ext cx="3276360" cy="43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ng 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l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ng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q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ng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048120" y="1646280"/>
            <a:ext cx="12189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352680" y="12034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209680" y="287964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1752120" y="4465800"/>
            <a:ext cx="12956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3124080" y="2179800"/>
            <a:ext cx="990720" cy="7617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047760" y="3703680"/>
            <a:ext cx="990360" cy="7621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2057400" y="3017880"/>
            <a:ext cx="990720" cy="7621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276720" y="3276720"/>
            <a:ext cx="609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09680" y="387036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33720" y="11127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914400" y="4800600"/>
            <a:ext cx="82296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s of Put-Call Parity:    P  +  S  =  C  + Cash [= K/(1+r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:  Pension Fund hedging its stock holding when it fears a fall in stock prices (over the next 6 months) and wishes to temporarily establish a “floor value (=K) but also benefit from any stock price ri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ee ‘Long Put’ abo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03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03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6" name=""/>
          <p:cNvSpPr/>
          <p:nvPr/>
        </p:nvSpPr>
        <p:spPr>
          <a:xfrm>
            <a:off x="99072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917640" y="127080"/>
            <a:ext cx="71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nancial Engineering: Synthetic Call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8F7-CE37-43B4-9A3F-49E48C5D3F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914400" y="76320"/>
            <a:ext cx="790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nancial Engineering: Leeson’s Short Stradd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62720" y="685800"/>
            <a:ext cx="304776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hort (=sell)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l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hort(=sell) 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eq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hort Strad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438280" y="8380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352680" y="115740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124080" y="1295280"/>
            <a:ext cx="1067040" cy="685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05120" y="1295280"/>
            <a:ext cx="1218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124080" y="121932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2209320" y="2286000"/>
            <a:ext cx="838440" cy="609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209680" y="20620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42900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048120" y="220968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048120" y="2286000"/>
            <a:ext cx="129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9528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1294920" y="4191120"/>
            <a:ext cx="38862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048120" y="4191120"/>
            <a:ext cx="0" cy="7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1905120" y="3200400"/>
            <a:ext cx="1143000" cy="1905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 flipV="1">
            <a:off x="3047760" y="3200400"/>
            <a:ext cx="1143000" cy="1905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505320" y="3429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33720" y="3429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35560" y="2362320"/>
            <a:ext cx="765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38080" y="396252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838080" y="5178600"/>
            <a:ext cx="853452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You are initially credited with the call and put premia  C + P  (at t=0) but if at expiry if there is either a large fall or a large rise in S (relative to the strike price K ) then you will make a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eg. Leeson’s short straddle : Kobe Earthquake which led to a fall in S = “Nikkei-225” and large losses)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819520" y="42721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0" y="3240"/>
            <a:ext cx="838080" cy="6854760"/>
            <a:chOff x="0" y="3240"/>
            <a:chExt cx="838080" cy="6854760"/>
          </a:xfrm>
        </p:grpSpPr>
        <p:sp>
          <p:nvSpPr>
            <p:cNvPr id="1093" name=""/>
            <p:cNvSpPr/>
            <p:nvPr/>
          </p:nvSpPr>
          <p:spPr>
            <a:xfrm>
              <a:off x="0" y="324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58680" y="166680"/>
              <a:ext cx="117360" cy="6550200"/>
              <a:chOff x="58680" y="166680"/>
              <a:chExt cx="117360" cy="6550200"/>
            </a:xfrm>
          </p:grpSpPr>
          <p:sp>
            <p:nvSpPr>
              <p:cNvPr id="1095" name=""/>
              <p:cNvSpPr/>
              <p:nvPr/>
            </p:nvSpPr>
            <p:spPr>
              <a:xfrm>
                <a:off x="58680" y="17575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8680" y="1987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8680" y="22147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8680" y="24447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8680" y="267516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8680" y="29019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8680" y="3132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8680" y="336240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8680" y="35895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8680" y="3819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680" y="40496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680" y="42753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8680" y="4505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8680" y="47325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8680" y="4962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8680" y="51926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8680" y="5419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8680" y="56498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680" y="5880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8680" y="61070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8680" y="63374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8680" y="65660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8680" y="16668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8680" y="3938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680" y="62388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680" y="8524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8680" y="10796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8680" y="130968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680" y="15400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4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143000" y="685800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371240" y="29718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D OF SLIDE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2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3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0" name=""/>
          <p:cNvSpPr/>
          <p:nvPr/>
        </p:nvSpPr>
        <p:spPr>
          <a:xfrm>
            <a:off x="990720" y="9907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219320" y="655308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B02-D95C-476F-AE2E-EBAE04C05F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14040" y="114120"/>
            <a:ext cx="701028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BREAK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3" name=""/>
          <p:cNvGraphicFramePr/>
          <p:nvPr/>
        </p:nvGraphicFramePr>
        <p:xfrm>
          <a:off x="2214720" y="1371600"/>
          <a:ext cx="469584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1371600"/>
                    <a:ext cx="46958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6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6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7" name=""/>
          <p:cNvSpPr/>
          <p:nvPr/>
        </p:nvSpPr>
        <p:spPr>
          <a:xfrm>
            <a:off x="1066680" y="6858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143000" y="655308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91B-E148-4F19-BB63-E17D23B99D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93440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ments:Spot and Derivative Market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.Cuthbertson and D.Nitzs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HAPTER 2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tions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990720" y="6094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39960" y="0"/>
            <a:ext cx="7518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99E-B925-412D-BA75-6C1ED46FBC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5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5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14446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s of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AD6-884F-4EC3-BDF0-F9F46FB2FE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8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838080"/>
            <a:ext cx="7696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ption gives you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r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but not the obligation)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 bu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or sell) ‘something’ at  some time in the future, at a (strike)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ice agreed to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is privilege you pay the option (price) premium to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ne way they differ from future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deal is favourable to you then you will ‘take deliver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 if you do not want to go through with the deal (because it is not advantageous to you), then you can simply do nothing and  ‘walk away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0800" y="25416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s of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4AB-E78B-4A33-B636-C2F4294F5C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2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2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1436760"/>
            <a:ext cx="7696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‘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omething’in the options contract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ares of AT&amp;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ock index (S&amp;P5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-bo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ld/Silver (index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0800" y="25416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s of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A01-95C8-4894-BE0A-69B3E7FA6A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5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5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1066680"/>
            <a:ext cx="7619760" cy="56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peculation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provide leverage- only pay small option premium and ‘downside’ losses are limi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suranc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 can limit ‘downside’ outcome but allows most of the  ‘upside potential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lta Hedging - ensures that the value of your portfolio is unchanged (over say 1-week) - I.e. no ‘upside’ or ‘downside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rbitrag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ensures there are no (v. few) miss-priced options  (‘too advanced’ for this cour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10800" y="25416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s of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2A9-C6DD-4014-B1F6-47EB600E5B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9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9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1066680"/>
            <a:ext cx="7315200" cy="49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options are combined with other options or other assets (e.g. stocks) then this is known a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inanci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European O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” only be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exercised at mat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American O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” can be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exercised at any time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(eg. befo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turit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T you can sell/buy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n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isting option to another person at any time (I.e. prior to expiration/matur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you buy and later sell the option then ‘delivery’ (of the share) TO YOU is cancelled (by the Clearing House, CBO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9160" y="25416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s of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691-CA08-4A06-B115-BC44C1EA08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2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3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6094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al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430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447-FF67-4E6A-994F-FB0B9B0071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2T11:17:34Z</dcterms:created>
  <dc:creator>Dept. of Economics</dc:creator>
  <dc:description/>
  <dc:language>en-US</dc:language>
  <cp:lastModifiedBy>Keith Cuthbertson</cp:lastModifiedBy>
  <cp:lastPrinted>2001-09-25T15:15:17Z</cp:lastPrinted>
  <dcterms:modified xsi:type="dcterms:W3CDTF">2001-10-03T17:52:08Z</dcterms:modified>
  <cp:revision>130</cp:revision>
  <dc:subject/>
  <dc:title>FUTURES &amp; OPTIONS</dc:title>
</cp:coreProperties>
</file>